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D7C-02FB-493E-B433-82D94A1E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28E-F329-4942-B296-006C723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017-6FD5-4EB6-B7B1-06112DC6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F61-FB6D-498E-A36D-C568A9C1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A3CD-733C-4D6C-92D3-A5162E60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63E2-3AB5-4F73-8F48-47CF74F4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6304-F764-4816-9C46-FB778B1B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F7E4-D130-4A2C-AEBE-B84AD439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AA67-C7FD-4143-9907-33FAAD57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B03-4F44-44A6-945E-7AAA09CC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73C2-39B8-495E-9364-2BD659B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7F8-8213-4D3C-9F85-A162256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5D33-C347-450A-9646-5C6CA47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737-94B8-4B54-AD0B-7DC13F5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CAB-68E3-4A32-A96D-25820199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FD19-A338-4D1F-9B52-050CE066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E526-B62B-41E3-938A-4C654D46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B41-2D14-43F6-BFE7-E45128C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B16-B496-4E28-975B-47264197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E15-6C28-46D1-8051-832500C8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680-9C87-4634-8ADF-6D2B0F4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8F1-2FEF-4372-844E-0820ECB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A0E-1BE6-4D43-BA1B-6DA2E69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9B6-C80F-4845-8193-E965E30C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13AF-4529-47B4-B469-E26EB163E3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C895-F657-4B5D-9F06-E81898D715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ru/search?q=&#1040;&#1085;&#1080;&#1084;&#1072;&#1094;&#1080;&#1086;&#1085;&#1085;&#1099;&#1077;+&#1082;&#1072;&#1088;&#1090;&#1080;&#1085;&#1082;&#1080;+&#1090;&#1077;&#1088;&#1077;&#1084;-&#1090;&#1077;&#1088;&#1077;&#1084;&#1086;&#1082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603360" y="1822320"/>
            <a:ext cx="7864200" cy="250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72723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селились звери в теремке, стали жить-поживать, да математического ума прибавлять.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5" descr="http://crosti.ru/patterns/00/04/01/34ac43ffe1/picture_mirror.jpg"/>
          <p:cNvPicPr/>
          <p:nvPr/>
        </p:nvPicPr>
        <p:blipFill>
          <a:blip r:embed="rId1"/>
          <a:stretch/>
        </p:blipFill>
        <p:spPr>
          <a:xfrm>
            <a:off x="1476360" y="1916280"/>
            <a:ext cx="6095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8" descr="http://ipadstory.ru/wp-content/uploads/2011/12/terem-teremok-7.jpg"/>
          <p:cNvPicPr/>
          <p:nvPr/>
        </p:nvPicPr>
        <p:blipFill>
          <a:blip r:embed="rId1"/>
          <a:stretch/>
        </p:blipFill>
        <p:spPr>
          <a:xfrm>
            <a:off x="1403280" y="1484280"/>
            <a:ext cx="609624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12" descr="C:\Documents and Settings\Administrator\Desktop\13286803253500175.gif"/>
          <p:cNvPicPr/>
          <p:nvPr/>
        </p:nvPicPr>
        <p:blipFill>
          <a:blip r:embed="rId2"/>
          <a:stretch/>
        </p:blipFill>
        <p:spPr>
          <a:xfrm>
            <a:off x="5076720" y="260280"/>
            <a:ext cx="3198960" cy="329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нет-ресур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004e6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google.ru/search?q=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Анимационные+картинки+терем-терем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festival.1september.ru/articles/594801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kinofilms.tv/images/films/48/47428/pict/2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3.bp.blogspot.com/-frZWhNoFP1o/ULugOiYxMKI/AAAAAAAAAME/3mfuGL3z4qU/s1600/teremok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ttp://st.kp.yandex.net/images/film_iphone/iphone360_597593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704520"/>
            <a:ext cx="52560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лшебная страна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Содержимое 4" descr="0_389ce_37dfb487_L.gif"/>
          <p:cNvPicPr/>
          <p:nvPr/>
        </p:nvPicPr>
        <p:blipFill>
          <a:blip r:embed="rId1"/>
          <a:stretch/>
        </p:blipFill>
        <p:spPr>
          <a:xfrm>
            <a:off x="1547640" y="2205000"/>
            <a:ext cx="597708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12" descr="C:\Documents and Settings\Administrator\Desktop\13286803253500175.gif"/>
          <p:cNvPicPr/>
          <p:nvPr/>
        </p:nvPicPr>
        <p:blipFill>
          <a:blip r:embed="rId2"/>
          <a:stretch/>
        </p:blipFill>
        <p:spPr>
          <a:xfrm>
            <a:off x="5364000" y="0"/>
            <a:ext cx="3200400" cy="3295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979640" y="1341360"/>
            <a:ext cx="34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macdigger.ru/wp-content/uploads/2011/12/terem-1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8800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http://edu.shopping-time.ru/images/screenshots/349446_1.jpg"/>
          <p:cNvPicPr/>
          <p:nvPr/>
        </p:nvPicPr>
        <p:blipFill>
          <a:blip r:embed="rId1"/>
          <a:stretch/>
        </p:blipFill>
        <p:spPr>
          <a:xfrm>
            <a:off x="755640" y="1484280"/>
            <a:ext cx="7737480" cy="51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2590920" cy="650880"/>
          </a:xfrm>
          <a:prstGeom prst="rect">
            <a:avLst/>
          </a:prstGeom>
          <a:noFill/>
          <a:ln w="9360">
            <a:solidFill>
              <a:srgbClr val="0b5395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множение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55520" y="-152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52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6920" y="836280"/>
            <a:ext cx="3971880" cy="10796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множения на 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Picture 7" descr="http://img0.liveinternet.ru/images/attach/c/2/67/80/67080849_33.jpg"/>
          <p:cNvPicPr/>
          <p:nvPr/>
        </p:nvPicPr>
        <p:blipFill>
          <a:blip r:embed="rId1"/>
          <a:stretch/>
        </p:blipFill>
        <p:spPr>
          <a:xfrm>
            <a:off x="2627280" y="2276640"/>
            <a:ext cx="4000680" cy="390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836640"/>
            <a:ext cx="4103640" cy="1008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умножения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 числом 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Picture 7" descr="http://vyatmama.ru/skazki/18.jpg"/>
          <p:cNvPicPr/>
          <p:nvPr/>
        </p:nvPicPr>
        <p:blipFill>
          <a:blip r:embed="rId1"/>
          <a:srcRect l="22360" t="0" r="0" b="0"/>
          <a:stretch/>
        </p:blipFill>
        <p:spPr>
          <a:xfrm>
            <a:off x="2411280" y="2133720"/>
            <a:ext cx="4392720" cy="417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39640" y="1052640"/>
            <a:ext cx="4824360" cy="1008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поминаем с увлечением  таблицу умнож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1" name="Picture 8" descr="http://www.kaliningradlib.ru/system/files/imagecache/picture_800/f_4ec0c428b22bc.jpg"/>
          <p:cNvPicPr/>
          <p:nvPr/>
        </p:nvPicPr>
        <p:blipFill>
          <a:blip r:embed="rId1"/>
          <a:stretch/>
        </p:blipFill>
        <p:spPr>
          <a:xfrm>
            <a:off x="755640" y="2492280"/>
            <a:ext cx="4032360" cy="375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10" descr="http://sovmult.ru/Audio/R/4391.jpg"/>
          <p:cNvPicPr/>
          <p:nvPr/>
        </p:nvPicPr>
        <p:blipFill>
          <a:blip r:embed="rId2"/>
          <a:stretch/>
        </p:blipFill>
        <p:spPr>
          <a:xfrm>
            <a:off x="5580000" y="2492280"/>
            <a:ext cx="2857680" cy="37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720" y="1412640"/>
            <a:ext cx="1800000" cy="6476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http://3.bp.blogspot.com/-frZWhNoFP1o/ULugOiYxMKI/AAAAAAAAAME/3mfuGL3z4qU/s1600/teremok.jpg"/>
          <p:cNvPicPr/>
          <p:nvPr/>
        </p:nvPicPr>
        <p:blipFill>
          <a:blip r:embed="rId1"/>
          <a:stretch/>
        </p:blipFill>
        <p:spPr>
          <a:xfrm>
            <a:off x="2268360" y="2349360"/>
            <a:ext cx="493416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55548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Кто быстрее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2133720"/>
            <a:ext cx="822960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2       4×2       14: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3       7×3       15: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×2       0×1       27: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×3       6×2       21: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4        7:1        8×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2" descr="http://st.kp.yandex.net/images/film_iphone/iphone360_597593.jpg"/>
          <p:cNvPicPr/>
          <p:nvPr/>
        </p:nvPicPr>
        <p:blipFill>
          <a:blip r:embed="rId1"/>
          <a:srcRect l="0" t="28666" r="0" b="0"/>
          <a:stretch/>
        </p:blipFill>
        <p:spPr>
          <a:xfrm>
            <a:off x="5364000" y="2276640"/>
            <a:ext cx="3429000" cy="340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</dc:creator>
  <dc:description/>
  <dc:language>en-US</dc:language>
  <cp:lastModifiedBy>Пользователь</cp:lastModifiedBy>
  <dcterms:modified xsi:type="dcterms:W3CDTF">2021-10-30T05:24:02Z</dcterms:modified>
  <cp:revision>58</cp:revision>
  <dc:subject/>
  <dc:title>PowerPoint Presentation</dc:title>
</cp:coreProperties>
</file>